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F30-EC9A-4BE4-BBD1-C8B250FC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1A7-DCA2-4E49-B5F1-83245F92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255-EF2C-49B1-BCD4-5A81EB16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E9C-6133-40C8-844A-9FA888DF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E89-CAF1-4D8A-A569-69584D68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F44-1AAD-4CD9-9D69-A522D0A4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C35-8C80-4C8D-9D20-0B9BF622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02E-D26B-4181-BECF-1849F0E8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EE8-02BA-403C-8C4E-042A89B4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7F5-43CF-4F48-9671-CF406FF2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BE1-E8AD-48DA-83B3-F8595D4C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74F-76E6-49D3-BF3B-91B0304C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15B0-C3DE-4641-8711-F5B021C52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62373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user</cp:lastModifiedBy>
  <dcterms:modified xsi:type="dcterms:W3CDTF">2017-08-21T09:02:04Z</dcterms:modified>
  <cp:revision>13</cp:revision>
  <dc:subject/>
  <dc:title>Слайд 1</dc:title>
</cp:coreProperties>
</file>